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9C1-2919-49A8-B936-E5D1E909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5D6-C659-48EA-9EDC-2410ECDC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BC9-AAC3-4E9F-9EAA-B9327FDE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C3D-5DED-4E64-9F1F-51C79FF1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F7A-12E7-4150-BF50-F6F4484F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FC8-CED7-4559-8030-BA3872E3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E25-F865-49BE-8407-E992E5AD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378-FC1B-4356-8D3F-DBDC0F9C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ADF-B058-41B8-998B-9159BF3A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69C-386A-46C2-9A37-DF9A3B92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422-149D-48F8-AA41-F2183E56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0D2-B33B-4EAC-9060-8A2EF72C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67A1-D6C9-4F7D-B7C9-9F16DA868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Laboratory Measures of ADH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am B. Le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vember 19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boratory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liable vs. unreliable instruments for detecting group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liable:  CPT, WISC-R Coding &amp; Arithmetic, Visual recall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reliable:  Tapping, pegboard, Trails A, WISC-R Ma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tinguishing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volve recall and/or recogn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quire use of the phonological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cing – experimenter control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ponse stimulus not continuously dis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apport et al.,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MEASURES OF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inuous Performance Tas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iginally designed to detect lapses in attention during seiz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osvold et al., 195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ually computerized assessments of sustained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n be visual, auditory, numerals, characters, sh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bject must respond to target embedded in a series of distracter stim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inuous Performance Tas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ree General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Rapport, 199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-Version – respond to a target stim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erse X-Version: inhibit response to a stim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X-Version – respond to a target stimulus only when it is preceded by a different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uble Letter Version – respond only to an immediately repeated stim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Friedman et al., 197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200" spc="-1" strike="noStrike">
                <a:solidFill>
                  <a:srgbClr val="b2b2b2"/>
                </a:solidFill>
                <a:latin typeface="Times New Roman"/>
              </a:rPr>
              <a:t>X</a:t>
            </a:r>
            <a:endParaRPr b="0" lang="en-US" sz="2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inuous Performance Tas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sessment of sustained atten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umber of Correct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rrors of Omission (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umber of Target Stimuli Mi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lieved to assess sustained attention &amp; impulse contr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rrors of Commission (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ponding after a non-target stim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»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ostek, Buchsbaum, &amp; Rapoport, 19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akly correlated with error scores from the M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th CEs and OEs significantly correlated with CPRS &amp; CTRS Hyp &amp; Inattn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»"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Barkley, 19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11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ners’ C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uter-assisted assessment of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4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 &amp; Reverse X Versions; AX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Trial Blocks; 3 Sub-blocks per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0 Trials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stimulus interval varies from 1, 2 or 4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ners’ C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umerous output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rrect responses, OEs, CEs, reaction times, Index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PT-II: Clinical Confidence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rms for general population and children 4-18 diagnosed with AD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 false positives and negatives (&lt;10-1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actice effects are min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sitive to pharmacological treatment chan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ners’ C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me Advantages/Dis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voids false negatives by frequent target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ance of impulsive errors maximized due to the continuous level of resp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stionable ecological val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rrelates with analogue measures of attention (.25-.3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lates to parent &amp; teacher ratings of inattention &amp; hyper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PRS/CTRS &amp; CB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arkely 199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ners’ CPT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rmative sample of 2,686 clinical and nonclinical subjec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-Scores &amp; the following class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edly, moderately or mildly atypical, within the average range, and good or very good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w confidence index that is the percentage out of 100 clients that would be correctly classified based on a profi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PT-II provides an overall index, for research comparisons with the CPT I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ges 6 years and o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Kiddie CPT for ages 4-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are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Laborator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Meas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st of Variables of Attention (TOV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Greenberg &amp; Waldman, 19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wo 11-minute computerized tasks (one for children under age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ily discriminated visual stimu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quare with a small square adjacent either to the top (target) or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tempts to eliminate confounds due to learning difficul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rst task presents the target infrequently (1:3 ½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igned to elicit boredom &amp; thus measure sustained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task presents the target frequently (3 ½ :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igned to measure impuls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rmative data in 2-year intervals for children 4-19 (10 year intervals for ad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agnostic utility not well docu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tory C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pe of a 96-word list, of 20 different monosyllabic words, read 6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rget word is “do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0 times per 96-word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pond by giving “thumbs up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st-retest only .67-.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oring is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rdon Diagnostic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rdon Diagnostic System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Gordon, 197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rtable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Vigilanc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(numerical AX ta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istractibili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(Random numbers flash in proximity to the targ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ela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points awarded for delaying response at least 6 sec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asure of response inhib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rrelates with hyperactivity ratings by parent &amp; 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 proven sensitive to medicatio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ud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Vigilance Task:  Subject responds to numbers that are heard instead of 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ference Task:  Random number through the headphones. The subject performs on the standard Vigilance (or Distractibility) tasks while having to contend with the confusing auditory input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termediate Visual &amp; Auditory CPT (I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lf the targets are visual (the characters are a "1" and a "2“)  and half are presented audibly through the computer's spe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3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her CP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ildren’s Checking Task (C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Margolis, 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per &amp; 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cellation Tas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numbers listed in rows on a page as they are read on a recor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ircle discrepancies between the list &amp; recor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0 minutes; Scores include OE &amp; 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rong correlations with other measures of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tter ecological validity than other C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her CP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tching Familiar Figures Test (MF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36640" indent="-1872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Kagan, 19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asure of attention and impuls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ch-to-sample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ntify the identical matching target picture from an array of six similar stim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2 or 20 trial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asures of response latency and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ils to differentiate ADHD from controls &amp; medication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olescent norms un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recommended for clinical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A-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st of Everyday Attention for Children (TEA-Ch; Manly et al., 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rms for ages 6-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 Game-like sub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lective Attention (2 subte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stained Attention (5 subte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tentional control/shift (2 subte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roximately 2 hours to complete; subtests can be administered individ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A-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ildren with ADHD show significant impairment on sustained attention &amp; attentional control tasks (compared to clinical contro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fferences on selective attention tasks not significa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eaton et al.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7mmfiltration" descr=""/>
          <p:cNvPicPr/>
          <p:nvPr/>
        </p:nvPicPr>
        <p:blipFill>
          <a:blip r:embed="rId2"/>
          <a:stretch/>
        </p:blipFill>
        <p:spPr>
          <a:xfrm>
            <a:off x="7039080" y="3733920"/>
            <a:ext cx="2104920" cy="3124080"/>
          </a:xfrm>
          <a:prstGeom prst="rect">
            <a:avLst/>
          </a:prstGeom>
          <a:ln w="0">
            <a:noFill/>
          </a:ln>
        </p:spPr>
      </p:pic>
      <p:pic>
        <p:nvPicPr>
          <p:cNvPr id="45" name="buret" descr=""/>
          <p:cNvPicPr/>
          <p:nvPr/>
        </p:nvPicPr>
        <p:blipFill>
          <a:blip r:embed="rId3"/>
          <a:stretch/>
        </p:blipFill>
        <p:spPr>
          <a:xfrm>
            <a:off x="0" y="1219320"/>
            <a:ext cx="3065400" cy="5638680"/>
          </a:xfrm>
          <a:prstGeom prst="rect">
            <a:avLst/>
          </a:prstGeom>
          <a:ln w="0">
            <a:noFill/>
          </a:ln>
        </p:spPr>
      </p:pic>
      <p:pic>
        <p:nvPicPr>
          <p:cNvPr id="46" name="mohr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939960"/>
          </a:xfrm>
          <a:prstGeom prst="rect">
            <a:avLst/>
          </a:prstGeom>
          <a:ln w="0">
            <a:noFill/>
          </a:ln>
        </p:spPr>
      </p:pic>
      <p:pic>
        <p:nvPicPr>
          <p:cNvPr id="47" name="cylB" descr=""/>
          <p:cNvPicPr/>
          <p:nvPr/>
        </p:nvPicPr>
        <p:blipFill>
          <a:blip r:embed="rId5"/>
          <a:stretch/>
        </p:blipFill>
        <p:spPr>
          <a:xfrm>
            <a:off x="2400480" y="1752480"/>
            <a:ext cx="1422360" cy="5105520"/>
          </a:xfrm>
          <a:prstGeom prst="rect">
            <a:avLst/>
          </a:prstGeom>
          <a:ln w="0">
            <a:noFill/>
          </a:ln>
        </p:spPr>
      </p:pic>
      <p:pic>
        <p:nvPicPr>
          <p:cNvPr id="48" name="filtration" descr=""/>
          <p:cNvPicPr/>
          <p:nvPr/>
        </p:nvPicPr>
        <p:blipFill>
          <a:blip r:embed="rId6"/>
          <a:stretch/>
        </p:blipFill>
        <p:spPr>
          <a:xfrm>
            <a:off x="4390920" y="3124080"/>
            <a:ext cx="2225880" cy="3733920"/>
          </a:xfrm>
          <a:prstGeom prst="rect">
            <a:avLst/>
          </a:prstGeom>
          <a:ln w="0">
            <a:noFill/>
          </a:ln>
        </p:spPr>
      </p:pic>
      <p:pic>
        <p:nvPicPr>
          <p:cNvPr id="49" name="erlen" descr=""/>
          <p:cNvPicPr/>
          <p:nvPr/>
        </p:nvPicPr>
        <p:blipFill>
          <a:blip r:embed="rId7"/>
          <a:stretch/>
        </p:blipFill>
        <p:spPr>
          <a:xfrm>
            <a:off x="7773840" y="914400"/>
            <a:ext cx="137016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stop" descr=""/>
          <p:cNvPicPr/>
          <p:nvPr/>
        </p:nvPicPr>
        <p:blipFill>
          <a:blip r:embed="rId8"/>
          <a:stretch/>
        </p:blipFill>
        <p:spPr>
          <a:xfrm>
            <a:off x="6781680" y="914400"/>
            <a:ext cx="102564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beaker" descr=""/>
          <p:cNvPicPr/>
          <p:nvPr/>
        </p:nvPicPr>
        <p:blipFill>
          <a:blip r:embed="rId9"/>
          <a:stretch/>
        </p:blipFill>
        <p:spPr>
          <a:xfrm>
            <a:off x="3809880" y="990720"/>
            <a:ext cx="170676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Neuropsychological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uropsychological Measu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roop Word-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med test measuring the ability to inhibit or suppress automatic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igh % of false negatives (53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arkely &amp; Grodzinsky,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l Making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ils B – Attentional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y high false negatives (80-8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verall classification &lt;54% 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arkely et al., 1992; 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xed resul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consistent in identifying group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uropsychological Measu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sconsin Card Sorting Task (WC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uterized/manual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ticipant must correctly sort a series of colored geometric shapes according to an set of rules unknown to the su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fter each “sort,” the only feedback is correct/in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s must be deduced from this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s change on each successive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quires an ability to shift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Mirsky et al., 1991; Heaton et al., 19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 recommended for diagnostic 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alse negative 61-89%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MEASURES OF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asuring Activity Lev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wo primary classif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nary Devic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– Respond in an “all or nothing” manner when movement exceeds a threshol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portional Devic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– Measure motor activity in direct proportion to the magnitude of m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Tyron, 198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asuring Activity Lev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Binary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Mercury Switch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ition chang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“wiggle ch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consistent in identifying group dif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related to parent hyperactivity ra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Pedo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tivated by the impact of the foot &amp;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Photoelectric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omet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roportional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ctometer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ankle or w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dified self-winding w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vements of the limb corresponds to movement of the watch’s h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sitive to stimulant drug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boratory actometer ratings not significantly related to parent ratings of hyperactivity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kle actometers relate to CPT CEs.(.3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Barkely et al., 1975; Ullman et al., 197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arent 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ucky" descr=""/>
          <p:cNvPicPr/>
          <p:nvPr/>
        </p:nvPicPr>
        <p:blipFill>
          <a:blip r:embed="rId2"/>
          <a:stretch/>
        </p:blipFill>
        <p:spPr>
          <a:xfrm>
            <a:off x="1828800" y="1295280"/>
            <a:ext cx="5181480" cy="518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ould address aspects of the follow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re features of AD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ymptom severity and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vel of impai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orbi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reases subj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st-effective method for multiple inform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be completed prior to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cess to infrequently displayed behaviors that may be missed in observation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4520" indent="-1782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nastopoulos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tential limi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ume informant is familiar enough with the subject to accurately complete the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informant must be able to understand th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ult psychopathology may distort parent perceptions of the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ental or teacher tolerance of behavior may influence rat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nastopoulos 2001; Sattler 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boratory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iques where behavior is observed under standardized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ually involving stimuli designed to evoke the specific behavior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cluded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turalistic observations in unstandardize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chniques designed primarily to elicit &amp; observe physiological respo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Frick, 2000 – J Clin Child Psycholo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ners’ Rating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ent &amp; Teacher revised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ildren 3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ent 80 items (27 on the Short-fo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cher 59 items (28 on the Short fo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rt form has limited scales – focus on ADHD/ODD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lf-report for adolescents 12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ners-Wells Adolescent Self Rating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7-item (27 on the short for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le &amp; female norms in 3 year 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ting on a 4-point sca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ners’ Rating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tings based on the previous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ellent psychometric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mple comparisons between teacher &amp; parent ver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HD Index (parent form):  12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yperactivity Scale moderately related to total hyperactivity score during analogue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rkely 199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havioral Assessment Scale for Children (BAS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ynolds &amp; Kamphaus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ent, teacher, and self ratings scales; Student observ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tings over the previous 3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school, child and adolescent ver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30 items on a 4 point scale (parent &amp; teac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70 True/False items for the self-report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ales include: adaptability, aggression, anxiety, attention problems, atypicality, conduct problems, depression, hyperactivity, leadership, learning problems, social skills, somatization, study skills, &amp; withdraw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s index of Adaptive Ski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cellent psychometrics; correlates highly with the CBCL &amp; Conners’; moderately with the 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predictive of ADHD status than the CB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88% of the sample correctly identified as ADHD (using the Attention subsca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Ostrander et al., 19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henbach Child Behavior Checklist (CBC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ently revised with new normativ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ent, teacher, &amp; self-rating form of behaviors over the past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ternalizing, Internalizing, and Total Problem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tention &amp; hyperactivity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haps the most frequently used broad-banded measure in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astopoulos &amp; Shelton,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SM-IV SNAP-IV ADHD Check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Swanson, 199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parents, teachers, caregi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SM-IV symptoms on a 4 point rat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es not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ting on impairment in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formation of symptoms across set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ymptom chronicity ratin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ymptom ons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NAP-I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mple i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es not seem to listen when spoke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ten “on the go” or acts as if “driven by a mot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ten has difficulty waiting for a 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earch screener for ADH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ult version is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sonality Inventory for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80/420 item parent rating form (True/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cks an inattentive sub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vereux Scales of Ment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regiver rati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point scale based on the previous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ly 4 inattention items, 3 impulsivity items &amp; 3 hyperactivity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hyperactivity or impulsivity sub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dest psycho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ehavior Rating Inventory for Executive Function (BRIEF;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oia et al., 199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signed to assess several aspects of executiv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hibition, Shift, Emotional Control, Working Memory, Planning/Organization, Organization of materials,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children ages 5-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86 items; Parent &amp; Teacher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boratory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rect, systematic behavioral observations conducted in a clinic or research setting where efforts have been made to approximate more naturalistic situations (e.g., school, home, etc.).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arkley, 1991 – J Ab C Psycholo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ften limited ecological val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I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help differentiate ADHD sub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arkely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be useful in identifying difficulites associated with ADHD (e.g. poor behavioral initiation; planning, organiz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orking Memory &amp; Inhibit Scales moderately predictive of ADHD diagnosis (Predominately Inattentive or Combined Ty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uctured          Inter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agnostic Interview Schedule for Children IV (DISC-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IMH 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veloped for use in epidemiological studies of childhood behavior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 major sections; 24 diagnostic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0 DSM-IV diagnoses may be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aded question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stions on symptom onset, severity,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em questions asked of every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ingent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imarily responded to by yes or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C-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ministered to parents of children 6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outh version for ages 9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5-90 minutes administratio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nician administered, computer en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od reliability &amp; val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hers information on ADHD symptoms &amp; comorbid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result in an overestimation of psychiatric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agnostic Interview for Children &amp; Adolescents-IV (DICA-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2000" indent="-207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ich et al., 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reening measure for psychiatric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vised to address major child and adolescent DSM-IV diagn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nician administered, computer en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ents of children age 6-17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8 Diagnostic Categories; 5-20 minutes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 “High Risk” areas, e.g., CD, alcohol &amp; street drug use, MDD, suicide, PT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ditka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CA-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wo child form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ows for probing beyond simple yes/no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s more clinical skill &amp; expertise than the DISC to admin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nicians have the option to not administer certain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itical item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hedule for Affective Disorders and Schizophrenia (K-SA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Puig-Antich &amp; Chambers, 197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mi-structured interview for parents and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ildren ages 6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ypically takes 30-9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-SADS-PL – version most useful for ADHD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Kaufman et al.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-S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structured introductory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ographics, present complaints, development, prior psychological treatment, family/peer relationships, academic functioning &amp; hobb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reening Interview (82 symptoms divided into 20 diagnostic are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te symptoms with regard to current &amp; most severe past occur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7-28 questions on ADHD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agnoses based on both parent &amp; child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-S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liability good for ADHD (.63 for present diagnosis; .55 for lifetime diagnosis) but slightly less than structured interview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sesses age of onset, impairment, cross-situation criteria, academic achie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absolute guidelines for resolving informant discrepa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s substantial training relative the DISC &amp; 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ehavioral        Observ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2590920"/>
            <a:ext cx="4724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boratory &amp; Performance-Based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roader Perspectiv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iques suitable for use in research setting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ften limited implementation clin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ime consu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-diagnost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spite clinical u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havi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obser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ent evaluations may be biased due to distress or other psychological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nse behaviors may be perceived as more frequ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ed objectiv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cological validity vs. experimental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havi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rect observation of a child’s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alogue/laboratory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turalistic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ecklist” vs. Anecdotal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BC data is useful in understanding overall behavioral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re intensive for the 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val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havi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quires clear operational definitions of target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bjective, observable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licable (clear; unambiguo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criminating information; eliminate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Baer, Wolf &amp; Risley, 1968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server training and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havi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SC Student Observatio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ding of classroom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5 minute observation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ecklist of 65 adaptive and maladaptive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rence of behaviors during 30 3-second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ditional observations (e.g .teacher rea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havi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SC Student Observatio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od for initial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Normat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ief sampling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fficult to examine behavioral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havi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HD Behavioral Cod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Barkely; 19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boratory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ild is observed completing an academic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structed to work on the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y s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 not touch toys &amp; stimuli in the 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havi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HD Behavioral Cod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5 minute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f-task behavior, fidgeting, leaving the seat, vocalizing, or playing with the to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0-second interval recor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n be used to code behavior during the C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havioral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HD Behavioral Cod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od inter-observer agreement (.77-.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ildren with ADHD tend to score hig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sitive to medication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cks normat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estionable ecological val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val/frequency recor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eneral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incorporating laboratory measures into clinical assessments, keep in mind ecological valid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case of disagreement, consider the most ecologically valid sourc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agnosis and treatment planning should not be based on a single piece of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718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</a:rPr>
              <a:t>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ical Val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extent to which predictions based on a laboratory measure can be extended to naturalistic s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.g., Does the result of a laboratory task reflect actual attentional problem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ical Validity:  Barkley’s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  Does the laboratory measure show differences between ADHD &amp; control grou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. Correlations with other laboratory measures with well-established  ecological val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 Sensitivity to experimental manipulations know to affect the crite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. Correlations with ecological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boratory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42 studies comparing ADHD &amp; normal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39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riety of tasks &amp; neurocognitive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thora of instruments em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PT, WISC-R, WCST, MMFT, Str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Rapport et al.,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02:15:20Z</dcterms:created>
  <dc:creator>Adam B. Lewin</dc:creator>
  <dc:description/>
  <dc:language>en-US</dc:language>
  <cp:lastModifiedBy>jjohnson</cp:lastModifiedBy>
  <dcterms:modified xsi:type="dcterms:W3CDTF">2003-11-19T16:26:48Z</dcterms:modified>
  <cp:revision>76</cp:revision>
  <dc:subject/>
  <dc:title>Laboratory Measures of ADHD</dc:title>
</cp:coreProperties>
</file>