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376-753F-4D9A-A9FE-84D521CF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E6A-F3F8-4468-A81A-80168D1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E32-D56F-4BB1-81CB-E3930309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FB8-0914-4945-88DB-BC40418B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D45-9896-4A39-9A6E-8F5B142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673-F47A-4A46-BBEE-6C944D09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1EF-181D-447A-A7BE-24146FE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35B-E85E-48FA-B423-2C6F7934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356-F6DE-4FC7-BEB8-C208339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41E-4B6C-445A-86DE-AC150E9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FC2-59B3-4B3D-B725-D3DC602C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864-870A-45E8-9BD4-2D06943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81D-0D46-4C47-A6D9-0CD7BE170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aboratory Measures of ADH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am B. Le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 19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iable vs. unreliable instruments for detecting group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iable:  CPT, WISC-R Coding &amp; Arithmetic, Visual recall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reliable:  Tapping, pegboard, Trails A, WISC-R Ma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inguishing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volve recall and/or recog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 use of the phonologica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cing – experimenter contro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ponse stimulus not continuously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apport et al.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MEASURES OF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ous Performance Tas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iginally designed to detect lapses in attention during seiz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svold et al., 19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ually computerized assessments of sustained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be visual, auditory, numerals, characters,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ject must respond to target embedded in a series of distracter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ous Performance Tas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ree Gener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Rapport, 199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-Version – respond to a target stim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erse X-Version: inhibit response to a stim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X-Version – respond to a target stimulus only when it is preceded by a different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uble Letter Version – respond only to an immediately repeated stim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Friedman et al., 197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200" spc="-1" strike="noStrike">
                <a:solidFill>
                  <a:srgbClr val="b2b2b2"/>
                </a:solidFill>
                <a:latin typeface="Times New Roman"/>
              </a:rPr>
              <a:t>X</a:t>
            </a:r>
            <a:endParaRPr b="0" lang="en-US" sz="2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ous Performance Tas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essment of sustained atten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umber of Correct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rrors of Omission (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umber of Target Stimuli Mi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lieved to assess sustained attention &amp; impulse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rrors of Commission (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ponding after a non-target stim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ostek, Buchsbaum, &amp; Rapoport, 19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akly correlated with error scores from the M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th CEs and OEs significantly correlated with CPRS &amp; CTRS Hyp &amp; Inattn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Barkley, 19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er-assisted assessment of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4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 &amp; Reverse X Versions; AX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Trial Blocks; 3 Sub-blocks per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 Trials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stimulus interval varies from 1, 2 or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merous output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rect responses, OEs, CEs, reaction times, Index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T-II: Clinical Confide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s for general population and children 4-18 diagnosed with AD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 false positives and negatives (&lt;10-1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actice effects are mi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itive to pharmacological treatment cha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 Advantages/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oids false negatives by frequent targe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nce of impulsive errors maximized due to the continuous level of resp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able ecological val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lates with analogue measures of attention (.25-.3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es to parent &amp; teacher ratings of inattention &amp; hyper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RS/CTRS &amp; CB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 19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ative sample of 2,686 clinical and nonclinical subj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-Scores &amp; the following class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edly, moderately or mildly atypical, within the average range, and good or very good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w confidence index that is the percentage out of 100 clients that would be correctly classified based on a prof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PT-II provides an overall index, for research comparisons with the CPT I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ges 6 years and 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Kiddie CPT for ages 4-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re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Laborator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Meas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 of Variables of Attention (TO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Greenberg &amp; Waldman,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wo 11-minute computerized tasks (one for children under age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discriminated visual stimu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quare with a small square adjacent either to the top (target) or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empts to eliminate confounds due to learning difficu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rst task presents the target infrequently (1:3 ½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ed to elicit boredom &amp; thus measure sustained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task presents the target frequently (3 ½ :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ed to measure impul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ative data in 2-year intervals for children 4-19 (10 year intervals for ad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gnostic utility not well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tory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pe of a 96-word list, of 20 different monosyllabic words, read 6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word is “do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0 times per 96-word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pond by giving “thumbs 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-retest only .67-.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oring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rdon Diagnostic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rdon Diagnostic System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Gordon, 19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tabl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Vigi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numerical AX t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istractibi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Random numbers flash in proximity to the tar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ela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points awarded for delaying response at least 6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asure of response inhib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relates with hyperactivity ratings by parent &amp; 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proven sensitive to medica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d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Vigilance Task:  Subject responds to numbers that are heard instead of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ference Task:  Random number through the headphones. The subject performs on the standard Vigilance (or Distractibility) tasks while having to contend with the confusing auditory input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rmediate Visual &amp; Auditory CPT (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lf the targets are visual (the characters are a "1" and a "2“)  and half are presented audibly through the computer's spe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CP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ildren’s Checking Task (C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Margolis, 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per &amp; 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cellation Tas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numbers listed in rows on a page as they are read on a reco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le discrepancies between the list &amp; reco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 minutes; Scores include OE &amp; 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ong correlations with other measures of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tter ecological validity than other C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CP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tching Familiar Figures Test (MF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36640" indent="-187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Kagan, 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sure of attention and impuls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ch-to-sampl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 the identical matching target picture from an array of six similar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 or 20 trial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asures of response latency and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ls to differentiate ADHD from controls &amp; medication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olescent norms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recommended for clinic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-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 of Everyday Attention for Children (TEA-Ch; Manly et al.,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s for ages 6-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 Game-like sub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lective Attention (2 subt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stained Attention (5 subt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ntional control/shift (2 subt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ely 2 hours to complete; subtests can be administered individ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-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ldren with ADHD show significant impairment on sustained attention &amp; attentional control tasks (compared to clinical contr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fferences on selective attention tasks not signific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eaton et al.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7mmfiltration" descr=""/>
          <p:cNvPicPr/>
          <p:nvPr/>
        </p:nvPicPr>
        <p:blipFill>
          <a:blip r:embed="rId2"/>
          <a:stretch/>
        </p:blipFill>
        <p:spPr>
          <a:xfrm>
            <a:off x="7039080" y="3733920"/>
            <a:ext cx="210492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buret" descr=""/>
          <p:cNvPicPr/>
          <p:nvPr/>
        </p:nvPicPr>
        <p:blipFill>
          <a:blip r:embed="rId3"/>
          <a:stretch/>
        </p:blipFill>
        <p:spPr>
          <a:xfrm>
            <a:off x="0" y="1219320"/>
            <a:ext cx="3065400" cy="5638680"/>
          </a:xfrm>
          <a:prstGeom prst="rect">
            <a:avLst/>
          </a:prstGeom>
          <a:ln w="0">
            <a:noFill/>
          </a:ln>
        </p:spPr>
      </p:pic>
      <p:pic>
        <p:nvPicPr>
          <p:cNvPr id="46" name="mohr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39960"/>
          </a:xfrm>
          <a:prstGeom prst="rect">
            <a:avLst/>
          </a:prstGeom>
          <a:ln w="0">
            <a:noFill/>
          </a:ln>
        </p:spPr>
      </p:pic>
      <p:pic>
        <p:nvPicPr>
          <p:cNvPr id="47" name="cylB" descr=""/>
          <p:cNvPicPr/>
          <p:nvPr/>
        </p:nvPicPr>
        <p:blipFill>
          <a:blip r:embed="rId5"/>
          <a:stretch/>
        </p:blipFill>
        <p:spPr>
          <a:xfrm>
            <a:off x="2400480" y="1752480"/>
            <a:ext cx="1422360" cy="5105520"/>
          </a:xfrm>
          <a:prstGeom prst="rect">
            <a:avLst/>
          </a:prstGeom>
          <a:ln w="0">
            <a:noFill/>
          </a:ln>
        </p:spPr>
      </p:pic>
      <p:pic>
        <p:nvPicPr>
          <p:cNvPr id="48" name="filtration" descr=""/>
          <p:cNvPicPr/>
          <p:nvPr/>
        </p:nvPicPr>
        <p:blipFill>
          <a:blip r:embed="rId6"/>
          <a:stretch/>
        </p:blipFill>
        <p:spPr>
          <a:xfrm>
            <a:off x="4390920" y="3124080"/>
            <a:ext cx="2225880" cy="3733920"/>
          </a:xfrm>
          <a:prstGeom prst="rect">
            <a:avLst/>
          </a:prstGeom>
          <a:ln w="0">
            <a:noFill/>
          </a:ln>
        </p:spPr>
      </p:pic>
      <p:pic>
        <p:nvPicPr>
          <p:cNvPr id="49" name="erlen" descr=""/>
          <p:cNvPicPr/>
          <p:nvPr/>
        </p:nvPicPr>
        <p:blipFill>
          <a:blip r:embed="rId7"/>
          <a:stretch/>
        </p:blipFill>
        <p:spPr>
          <a:xfrm>
            <a:off x="7773840" y="914400"/>
            <a:ext cx="137016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stop" descr=""/>
          <p:cNvPicPr/>
          <p:nvPr/>
        </p:nvPicPr>
        <p:blipFill>
          <a:blip r:embed="rId8"/>
          <a:stretch/>
        </p:blipFill>
        <p:spPr>
          <a:xfrm>
            <a:off x="6781680" y="914400"/>
            <a:ext cx="102564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beaker" descr=""/>
          <p:cNvPicPr/>
          <p:nvPr/>
        </p:nvPicPr>
        <p:blipFill>
          <a:blip r:embed="rId9"/>
          <a:stretch/>
        </p:blipFill>
        <p:spPr>
          <a:xfrm>
            <a:off x="3809880" y="9907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europsychologica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uropsychological Measu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oop Word-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d test measuring the ability to inhibit or suppress automatic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 % of false negatives (5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 &amp; Grodzinsky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l Making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ils B – Attentional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igh false negatives (80-8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verall classification &lt;54%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 et al., 1992;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xed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consistent in identifying group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uropsychological Measu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sconsin Card Sorting Task (WC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uterized/manual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ticipant must correctly sort a series of colored geometric shapes according to an set of rules unknown to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ter each “sort,” the only feedback is correct/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s must be deduced from this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s change on each successive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s an ability to shift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Mirsky et al., 1991; Heaton et al.,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recommended for diagnostic 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lse negative 61-89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MEASURES OF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Activity Lev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primary classif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ary Devic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Respond in an “all or nothing” manner when movement exceeds a threshol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portional Devic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Measure motor activity in direct proportion to the magnitude of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yron, 198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Activity Lev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inar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ercury Switch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ition chang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“wiggle ch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consistent in identifying group dif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related to parent hyperactivity ra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edo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ivated by the impact of the foot &amp;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hotoelectric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ome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portional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ctomet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ankle or w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ified self-winding w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vements of the limb corresponds to movement of the watch’s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itive to stimulant drug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boratory actometer ratings not significantly related to parent ratings of hyperactivity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kle actometers relate to CPT CEs.(.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Barkely et al., 1975; Ullman et al., 197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ent 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ucky" descr=""/>
          <p:cNvPicPr/>
          <p:nvPr/>
        </p:nvPicPr>
        <p:blipFill>
          <a:blip r:embed="rId2"/>
          <a:stretch/>
        </p:blipFill>
        <p:spPr>
          <a:xfrm>
            <a:off x="1828800" y="12952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ould address aspects of the follow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e features of AD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mptom severity and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vel of impai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orbi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s subj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-effective method for multiple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be completed prior to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ess to infrequently displayed behaviors that may be missed in observation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-178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nastopoulos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tential 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e informant is familiar enough with the subject to accurately complete the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informant must be able to understand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ult psychopathology may distort parent perceptions of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ental or teacher tolerance of behavior may influence ra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nastopoulos 2001; Sattler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where behavior is observed under standardize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ually involving stimuli designed to evoke the specific behavior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luded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uralistic observations in unstandardize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chniques designed primarily to elicit &amp; observe physiological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Frick, 2000 – J Clin Child Psych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rs’ Rating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ent &amp; Teacher revised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ildren 3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ent 80 items (27 on the Short-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cher 59 items (28 on the Short 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form has limited scales – focus on ADHD/ODD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lf-report for adolescents 12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ners-Wells Adolescent Self Rating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7-item (27 on the short 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le &amp; female norms in 3 year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ing on a 4-point sca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rs’ Rating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ngs based on the previous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ellent psychometric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mple comparisons between teacher &amp; parent 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HD Index (parent form):  12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yperactivity Scale moderately related to total hyperactivity score during analogue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rkely 19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havioral Assessment Scale for Children (BA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ynolds &amp; Kamphaus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, teacher, and self ratings scales; Student observ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ngs over the previous 3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chool, child and adolescent 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30 items on a 4 point scale (parent &amp; teac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0 True/False items for the self-repo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les include: adaptability, aggression, anxiety, attention problems, atypicality, conduct problems, depression, hyperactivity, leadership, learning problems, social skills, somatization, study skills, &amp; withdraw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index of Adaptive 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ellent psychometrics; correlates highly with the CBCL &amp; Conners’; moderately with the 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predictive of ADHD status than the CB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88% of the sample correctly identified as ADHD (using the Attention subsc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Ostrander et al.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henbach Child Behavior Checklist (CB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ently revised with new normativ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, teacher, &amp; self-rating form of behaviors over the past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ternalizing, Internalizing, and Total Problem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ntion &amp; hyperactivity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haps the most frequently used broad-banded measure in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astopoulos &amp; Shelton,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SM-IV SNAP-IV ADHD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wanson, 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parents, teachers, careg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SM-IV symptoms on a 4 point rat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es not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ng on impairment i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tion of symptoms across se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mptom chronicity ra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mptom ons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-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mple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seem to listen when spoke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ten “on the go” or acts as if “driven by a mo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ten has difficulty waiting for a 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screener for AD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ult version i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onality Inventory for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80/420 item parent rating form (True/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cks an inattentive sub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reux Scales of Ment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regiver rati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point scale based on the previous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ly 4 inattention items, 3 impulsivity items &amp; 3 hyperactivit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hyperactivity or impulsivity sub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dest psycho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havior Rating Inventory for Executive Function (BRIEF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oia et al., 199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igned to assess several aspects of executiv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hibition, Shift, Emotional Control, Working Memory, Planning/Organization, Organization of materials,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children ages 5-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86 items; Parent &amp; Teacher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, systematic behavioral observations conducted in a clinic or research setting where efforts have been made to approximate more naturalistic situations (e.g., school, home, etc.).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ley, 1991 – J Ab C Psych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ten limited ecological 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help differentiate ADHD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useful in identifying difficulites associated with ADHD (e.g. poor behavioral initiation; planning, organ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ing Memory &amp; Inhibit Scales moderately predictive of ADHD diagnosis (Predominately Inattentive or Combined 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uctured         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agnostic Interview Schedule for Children IV (DISC-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MH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veloped for use in epidemiological studies of childhood behavior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 major sections; 24 diagnostic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0 DSM-IV diagnoses may be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ded quest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s on symptom onset, severity,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em questions asked of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ingent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marily responded to by yes or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C-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ministered to parents of children 6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th version for ages 9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5-90 minutes administrat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ian administered, computer e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reliability &amp;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hers information on ADHD symptoms &amp; comorbid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result in an overestimation of psychiatr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agnostic Interview for Children &amp; Adolescents-IV (DICA-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ich et al.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eening measure for psychiatric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sed to address major child and adolescent DSM-IV diagn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ian administered, computer e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s of children age 6-17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8 Diagnostic Categories; 5-20 minute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 “High Risk” areas, e.g., CD, alcohol &amp; street drug use, MDD, suicide, PT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ditka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CA-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wo child form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ows for probing beyond simple yes/no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s more clinical skill &amp; expertise than the DISC to admin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ians have the option to not administer certain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tical item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edule for Affective Disorders and Schizophrenia (K-S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Puig-Antich &amp; Chambers, 197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mi-structured interview for parents and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ldren ages 6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ically takes 30-9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-SADS-PL – version most useful for ADHD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Kaufman et al.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-S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structured introductory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graphics, present complaints, development, prior psychological treatment, family/peer relationships, academic functioning &amp; hobb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eening Interview (82 symptoms divided into 20 diagnostic are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e symptoms with regard to current &amp; most severe past 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7-28 questions on ADHD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gnoses based on both parent &amp; child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-S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iability good for ADHD (.63 for present diagnosis; .55 for lifetime diagnosis) but slightly less than structured interview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esses age of onset, impairment, cross-situation criteria, academic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absolute guidelines for resolving informant discrep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s substantial training relative the DISC &amp; 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ehavioral        Observ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590920"/>
            <a:ext cx="4724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&amp; Performance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roader Perspectiv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suitable for use in research sett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ten limited implementation clin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 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diagnos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pite clinical u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 evaluations may be biased due to distress or other psychological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nse behaviors may be perceived as more fre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d obje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logical validity vs. experimental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 observation of a child’s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logue/laboratory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uralistic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cklist” vs. Anecdotal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C data is useful in understanding overall behavior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re intensive for the 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a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quires clear operational definitions of target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bjective, observable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icable (clear; unambiguo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criminating information; eliminat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Baer, Wolf &amp; Risley, 196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rver training and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 Student Observ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ing of classroom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 minute observation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cklist of 65 adaptive and maladaptive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rence of behaviors during 30 3-second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onal observations (e.g .teacher re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 Student Observ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for initial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Norm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ief sampling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icult to examine behavioral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D Behavioral Cod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Barkely; 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boratory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ld is observed completing an academic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structed to work on the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y s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not touch toys &amp; stimuli in the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D Behavioral Cod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 minute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f-task behavior, fidgeting, leaving the seat, vocalizing, or playing with the to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-second interval rec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n be used to code behavior during the C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D Behavioral Cod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inter-observer agreement (.77-.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ldren with ADHD tend to score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itive to medication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cks norm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able ecological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val/frequency rec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eneral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incorporating laboratory measures into clinical assessments, keep in mind ecological valid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case of disagreement, consider the most ecologically valid sourc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agnosis and treatment planning should not be based on a single piece of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18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ical Val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extent to which predictions based on a laboratory measure can be extended to naturalistic s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.g., Does the result of a laboratory task reflect actual attentional problem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ical Validity:  Barkley’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 Does the laboratory measure show differences between ADHD &amp; control grou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Correlations with other laboratory measures with well-established  ecological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 Sensitivity to experimental manipulations know to affect the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. Correlations with ecological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42 studies comparing ADHD &amp; normal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39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riety of tasks &amp; neurocognit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thora of instruments em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PT, WISC-R, WCST, MMFT, Str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Rapport et al.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2:15:20Z</dcterms:created>
  <dc:creator>Adam B. Lewin</dc:creator>
  <dc:description/>
  <dc:language>en-US</dc:language>
  <cp:lastModifiedBy>jjohnson</cp:lastModifiedBy>
  <dcterms:modified xsi:type="dcterms:W3CDTF">2003-11-19T16:26:48Z</dcterms:modified>
  <cp:revision>76</cp:revision>
  <dc:subject/>
  <dc:title>Laboratory Measures of ADHD</dc:title>
</cp:coreProperties>
</file>